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8FB3-2A6B-4E0D-B768-E6454272E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F123-9B97-4430-8EEA-85532EFF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D4BC-33DD-48FD-A420-6D58E655F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CE20-46BC-4758-B951-F567FB781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0283-2B05-4CFA-A230-B02ECA180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5706-E6B9-45F3-9352-34762354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48E1-630D-4DA9-8A68-BD2A776A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D51AD-8F13-4909-B2B2-B4F3B2C3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167A1-126C-47F0-8726-1E577676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B76A-271D-4A2F-9F42-D8D2AF56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ACF0-3918-4967-A7A4-80F52806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9B62-682E-4932-A6E4-3A541DF6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9AED-CA7D-4D3C-B3CC-07A314C8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CA6A-C19B-45E8-B49F-6E613F77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028A-AA32-4389-824D-ABF2B658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569A-75D3-4F4D-A06C-C2F5E0CE2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3DD5-64B6-42CC-B114-5FAADEB39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B593-82EE-4006-8E4D-3600CB27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E618-41B8-4C03-862B-C1FA4051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035B-F197-4A93-B212-5283DBB4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354D-71A8-402A-BCFB-F3AF1D40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B70F-C69C-4193-BECF-9AEC8D3E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1710-E602-411A-9311-65B32286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67C4-7340-4123-9655-2C11DD4A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8A8E-F9D8-40C3-BC88-34C18B5D8CC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C72B-3F85-4EBC-A89F-5E2B14F7DA4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2280" y="2209320"/>
            <a:ext cx="876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rench / Italian express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cc"/>
                </a:solidFill>
                <a:latin typeface="Tahoma"/>
              </a:rPr>
              <a:t>prima donna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ei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st la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cc"/>
                </a:solidFill>
                <a:latin typeface="Tahoma"/>
              </a:rPr>
              <a:t>prima donna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ei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first la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cc"/>
                </a:solidFill>
                <a:latin typeface="Tahoma"/>
              </a:rPr>
              <a:t>pot-pourri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tten po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ied flow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easant sme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cc"/>
                </a:solidFill>
                <a:latin typeface="Tahoma"/>
              </a:rPr>
              <a:t>pot-pourri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rotten po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ied flow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easant sme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cc"/>
                </a:solidFill>
                <a:latin typeface="Tahoma"/>
              </a:rPr>
              <a:t>stiletto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 he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ylish sho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ttle dagg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cc"/>
                </a:solidFill>
                <a:latin typeface="Tahoma"/>
              </a:rPr>
              <a:t>stiletto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 he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ylish sho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little dagg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cc"/>
                </a:solidFill>
                <a:latin typeface="Tahoma"/>
              </a:rPr>
              <a:t>faux pas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 of fash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lse st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g mistak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cc"/>
                </a:solidFill>
                <a:latin typeface="Tahoma"/>
              </a:rPr>
              <a:t>faux pas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 of fash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false st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g mistak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cc"/>
                </a:solidFill>
                <a:latin typeface="Tahoma"/>
              </a:rPr>
              <a:t>al fresco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a cool pl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si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urtya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cc"/>
                </a:solidFill>
                <a:latin typeface="Tahoma"/>
              </a:rPr>
              <a:t>al fresco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in a cool pl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si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urtya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cc"/>
                </a:solidFill>
                <a:latin typeface="Tahoma"/>
              </a:rPr>
              <a:t>terracotta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ttage of terr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ked ear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t pla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cc"/>
                </a:solidFill>
                <a:latin typeface="Tahoma"/>
              </a:rPr>
              <a:t>tête à tête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imate convers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d to he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fro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cc"/>
                </a:solidFill>
                <a:latin typeface="Tahoma"/>
              </a:rPr>
              <a:t>tête à tête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imate convers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head to he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fro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cc"/>
                </a:solidFill>
                <a:latin typeface="Tahoma"/>
              </a:rPr>
              <a:t>a capella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a chap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out mus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cc"/>
                </a:solidFill>
                <a:latin typeface="Tahoma"/>
              </a:rPr>
              <a:t>a capella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in a chap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out mus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cc"/>
                </a:solidFill>
                <a:latin typeface="Tahoma"/>
              </a:rPr>
              <a:t>femme fatale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ying wo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adly wo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t wo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cc"/>
                </a:solidFill>
                <a:latin typeface="Tahoma"/>
              </a:rPr>
              <a:t>femme fatale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ying wo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deadly wo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t wo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cc"/>
                </a:solidFill>
                <a:latin typeface="Tahoma"/>
              </a:rPr>
              <a:t>ditto / detto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gre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g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cc"/>
                </a:solidFill>
                <a:latin typeface="Tahoma"/>
              </a:rPr>
              <a:t>ditto / detto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gre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g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sa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cc"/>
                </a:solidFill>
                <a:latin typeface="Tahoma"/>
              </a:rPr>
              <a:t>mardi gras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t Tuesd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ss in Mar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niv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cc"/>
                </a:solidFill>
                <a:latin typeface="Tahoma"/>
              </a:rPr>
              <a:t>mardi gras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Fat Tuesd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ss in Mar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niv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cc"/>
                </a:solidFill>
                <a:latin typeface="Tahoma"/>
              </a:rPr>
              <a:t>terracotta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ttage of terr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baked ear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t pla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cc"/>
                </a:solidFill>
                <a:latin typeface="Tahoma"/>
              </a:rPr>
              <a:t>déjà vu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incid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d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ready se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cc"/>
                </a:solidFill>
                <a:latin typeface="Tahoma"/>
              </a:rPr>
              <a:t>déjà vu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incid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d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already se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cc"/>
                </a:solidFill>
                <a:latin typeface="Tahoma"/>
              </a:rPr>
              <a:t>tutti frutti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az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weet and sou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fru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cc"/>
                </a:solidFill>
                <a:latin typeface="Tahoma"/>
              </a:rPr>
              <a:t>tutti frutti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az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weet and sou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all fru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cc"/>
                </a:solidFill>
                <a:latin typeface="Tahoma"/>
              </a:rPr>
              <a:t>bon voyage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d tr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d by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d lu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cc"/>
                </a:solidFill>
                <a:latin typeface="Tahoma"/>
              </a:rPr>
              <a:t>bon voyage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good tr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d by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d lu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06:24:19Z</dcterms:created>
  <dc:creator>bolleke</dc:creator>
  <dc:description/>
  <dc:language>en-US</dc:language>
  <cp:lastModifiedBy>willy</cp:lastModifiedBy>
  <dcterms:modified xsi:type="dcterms:W3CDTF">2008-03-10T15:18:39Z</dcterms:modified>
  <cp:revision>9</cp:revision>
  <dc:subject/>
  <dc:title>terracotta</dc:title>
</cp:coreProperties>
</file>